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7C9B-A82E-4FFA-A3F3-F0B9C2569D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8475-DF4F-4FC5-8FAE-16463F207FF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9C36-631F-4028-A693-EA08E7C1D1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2250-0F92-4B18-BE4B-A8E3C71F7C0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5F9-273A-4367-894A-F2981B32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D25-73D4-4764-A3B2-54440271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ECC-4D9A-48EA-B5AD-A00E8DEF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886-4D03-48FE-BB4E-D734F116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03CC-661E-428F-AE87-F1854D2D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21CF-CA97-43E8-A70D-91CE3A12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71F1-C8CD-4337-BB1C-A17D6847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DC0A-F883-4D6A-8144-5D74047E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014A-3591-425A-B616-6813D79A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C08D-0662-402F-8BB7-DB98B9BB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3902-1585-4F19-B574-A8544DC9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B3A-BCB3-4619-9AEF-5876A92E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9EB9-D33C-4C56-8DE1-CDFD2ACA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D764-F42F-4567-83A2-383CC1D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5AF0-42C2-4A29-956D-349259A8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A216-07E1-4868-AE0B-24376CF1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2960-2F0C-4350-84AC-4B0FAE86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A4E4-590E-45A1-8774-1CE6D5CC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587C-34CE-4C09-AF45-2F59AEB4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F411-E709-4F50-9BEF-17058368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526E-2DC4-4AC2-A3CE-57F7BCB7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009D4-9D73-4D69-A3F9-D3D2BD71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AB1-3BFB-4C04-91E5-1B83B416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FCE2-B228-4A1E-840F-1D4C3F27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6FAE-358D-4A8A-ACD1-21E7E38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9AB0-E80C-4823-8B3E-C9835E87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CF04-DEA0-4067-8D57-9F32364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0BAF-3A20-4880-81C7-F67220BB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C6D1-174E-4731-818F-5E5FFCB0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D79E-B6FE-4F51-B14C-65664B86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6AD8-F2A8-4DDE-9D99-BCEBE2F1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C019-8445-43C4-B76A-DCACFF31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A58C-2B15-4745-818D-D6D5BDE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67C-8B96-4D7D-9A46-F9F45D3A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DEAB-76D4-4B18-B80E-F8994354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0844-3069-4B4B-932F-3311426C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B579A-DB86-4CF8-8B6D-FCFF275B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0B04-7A71-41A2-8DE8-FBF9DED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4DF3-266C-4F60-89B2-422F91E7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9099-9571-466C-B21C-B6071EE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1690-AD1F-4802-97E8-D79E742F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C377-D3B7-4A8D-91C3-77B3919B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19E28-6AF2-4422-BE71-0EB03D5A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8C91D-4FD9-41DB-BC9D-F9BFF2D3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670-4BE9-419F-8C31-6D38DAF9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3AAF-FEBE-451B-9D74-6AA29867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36A30-7000-47A7-B0F8-2C306F08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0AB13-AF8A-4AED-8E5A-8A790570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8C03-8166-44D6-BE42-B37C5D06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4C26-719D-4FE9-ADCF-BE678DC4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005EC-0755-42AE-B4CB-7DB90D9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0641-3956-4C7B-B579-924315E7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BB937-8FE8-4AA8-B261-0FF77E7E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2A177-70CF-442B-B300-7E0C2618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7504-35EE-4CCF-ACEB-16BB291D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3BF-F24B-46B4-B28D-4DB9C75F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D7FE-1D1B-4571-A18D-43388DD5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7B3-8CFC-4B13-AC0A-58C7792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74A-756D-4375-9C15-97FB3E12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81B-7F7F-4F0C-A9B0-972975E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3ADF-E105-4442-BAFC-EE179256F7E2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CCEE-74AC-40BE-8136-5373CA879714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9EFA-B1FB-47A6-B73F-DA7A6A894DB1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A11-FA99-47EF-AA43-7905A5214505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3CBD-950C-4D02-ACD8-CE4263635E4F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F040-8B0D-4543-9582-58DFC1672B06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1C5-59C0-4ECD-AA1D-99C45372180D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8D8-9B5A-47FE-A817-74947F48CAC3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10F3-3B05-4450-B803-5DC137CCF84C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B75A-A1E5-457B-AC63-E3565559C07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ОБОТОТЕХНИ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В  НАЧАЛЬНОЙ ШКОЛ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50920" y="2690640"/>
            <a:ext cx="87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57120" y="471492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 работу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байкина Татьяна Владимировна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Кузнецк, 202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1873080" y="1090440"/>
            <a:ext cx="5540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3" descr="3.jpg"/>
          <p:cNvPicPr/>
          <p:nvPr/>
        </p:nvPicPr>
        <p:blipFill>
          <a:blip r:embed="rId1"/>
          <a:stretch/>
        </p:blipFill>
        <p:spPr>
          <a:xfrm>
            <a:off x="6329520" y="3424320"/>
            <a:ext cx="2743200" cy="1647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6e94"/>
                </a:solidFill>
                <a:latin typeface="Arial Black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Скругленный прямоугольник 8"/>
          <p:cNvSpPr/>
          <p:nvPr/>
        </p:nvSpPr>
        <p:spPr>
          <a:xfrm>
            <a:off x="3500280" y="2857680"/>
            <a:ext cx="2143440" cy="2714400"/>
          </a:xfrm>
          <a:custGeom>
            <a:avLst/>
            <a:gdLst>
              <a:gd name="textAreaLeft" fmla="*/ 104400 w 2143440"/>
              <a:gd name="textAreaRight" fmla="*/ 2039040 w 2143440"/>
              <a:gd name="textAreaTop" fmla="*/ 104400 h 2714400"/>
              <a:gd name="textAreaBottom" fmla="*/ 2610000 h 2714400"/>
            </a:gdLst>
            <a:ahLst/>
            <a:rect l="textAreaLeft" t="textAreaTop" r="textAreaRight" b="textAreaBottom"/>
            <a:pathLst>
              <a:path w="21600" h="27353">
                <a:moveTo>
                  <a:pt x="3600" y="0"/>
                </a:moveTo>
                <a:arcTo wR="3600" hR="3600" stAng="16200000" swAng="-5400000"/>
                <a:lnTo>
                  <a:pt x="0" y="23753"/>
                </a:lnTo>
                <a:arcTo wR="3600" hR="3600" stAng="10800000" swAng="-5400000"/>
                <a:lnTo>
                  <a:pt x="18000" y="27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ff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ая аудитория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5 ле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2571840" y="1500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Рисунок 11" descr="1.jpg"/>
          <p:cNvPicPr/>
          <p:nvPr/>
        </p:nvPicPr>
        <p:blipFill>
          <a:blip r:embed="rId2"/>
          <a:stretch/>
        </p:blipFill>
        <p:spPr>
          <a:xfrm>
            <a:off x="2928960" y="957240"/>
            <a:ext cx="3224160" cy="1828800"/>
          </a:xfrm>
          <a:prstGeom prst="rect">
            <a:avLst/>
          </a:prstGeom>
          <a:ln w="0">
            <a:noFill/>
          </a:ln>
        </p:spPr>
      </p:pic>
      <p:sp>
        <p:nvSpPr>
          <p:cNvPr id="259" name="Скругленный прямоугольник 9"/>
          <p:cNvSpPr/>
          <p:nvPr/>
        </p:nvSpPr>
        <p:spPr>
          <a:xfrm>
            <a:off x="5857920" y="92880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91a7c4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часов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лока по 24 занятия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Рисунок 12" descr="2.jpg"/>
          <p:cNvPicPr/>
          <p:nvPr/>
        </p:nvPicPr>
        <p:blipFill>
          <a:blip r:embed="rId3"/>
          <a:stretch/>
        </p:blipFill>
        <p:spPr>
          <a:xfrm>
            <a:off x="0" y="362412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261" name="Скругленный прямоугольник 7"/>
          <p:cNvSpPr/>
          <p:nvPr/>
        </p:nvSpPr>
        <p:spPr>
          <a:xfrm>
            <a:off x="357120" y="107172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: ПК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o WeD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ран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13880" y="285480"/>
            <a:ext cx="76647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 LEGO Education WeDo дает возможность ученикам собрать и запрограммировать простые модели LEGO через приложения в компьютере. В наборе 158 элементов, в том числе двигатель, датчики движения и положения, а также LEGO USB Hub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коммутатор). Совмещая программно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и учебное пособие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выполнить 12 тематических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й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Рисунок 5" descr="http://cache.lego.com/r/education/-/media/LEGO%20Education/Home/Images/Products/WeDo/ts.20100922T104512.9580_713x380_MainProduct.png"/>
          <p:cNvPicPr/>
          <p:nvPr/>
        </p:nvPicPr>
        <p:blipFill>
          <a:blip r:embed="rId1"/>
          <a:stretch/>
        </p:blipFill>
        <p:spPr>
          <a:xfrm>
            <a:off x="4788000" y="2133720"/>
            <a:ext cx="5284800" cy="2811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06e94"/>
                </a:solidFill>
                <a:latin typeface="Arial Black"/>
              </a:rPr>
              <a:t>ТЕМАТИЧЕСКИЙ БЛОК "ЖИВОТНЫЙ МИР"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57160" y="907560"/>
            <a:ext cx="75218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птич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а-барабанщ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лодный аллигатор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рхающая 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ычащий лев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кротит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йка-барабанщик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ягушка-квакушк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ар-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лшебные рыб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утята и пингвинят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и на карус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1062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</a:t>
            </a: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ДЕТЕЙ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57160" y="1125000"/>
            <a:ext cx="45784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ышления, навыков конструирования и программирования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ого мышления и изобретатель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лкой моторики, внимания, аккурат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я мотивации к созданию собственных разработок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иск качественного результата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ответственности при командной работе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ы и состязания в результате в целях к мотивации к обучению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630760" y="1484280"/>
            <a:ext cx="3114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 ВЗРОСЛЫ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56800" y="1125000"/>
            <a:ext cx="79628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меть представление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роботах в России и мире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жпредметных связях робототехники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рамках ФГОС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перспективах развития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тодических основах проектной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основных направлений образования робототехники и основных международных робототехнических стандартах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планировать виды 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основными понятиями образовательной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материальными знаниями: название деталей, моделей роботов, основами программирования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907920"/>
            <a:ext cx="9144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Конструктор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ГО помогает детям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м воплощать в жизнь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и идеи, строить 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антазировать, увлечённо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я и видя конечный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7" name="Picture 7" descr="G:\Camera\IMG_20141111_113151.jpg"/>
          <p:cNvPicPr/>
          <p:nvPr/>
        </p:nvPicPr>
        <p:blipFill>
          <a:blip r:embed="rId1"/>
          <a:stretch/>
        </p:blipFill>
        <p:spPr>
          <a:xfrm>
            <a:off x="5508720" y="260280"/>
            <a:ext cx="3432240" cy="4576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2"/>
          <a:stretch/>
        </p:blipFill>
        <p:spPr>
          <a:xfrm>
            <a:off x="7502400" y="5229360"/>
            <a:ext cx="142740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1" descr=""/>
          <p:cNvPicPr/>
          <p:nvPr/>
        </p:nvPicPr>
        <p:blipFill>
          <a:blip r:embed="rId1"/>
          <a:stretch/>
        </p:blipFill>
        <p:spPr>
          <a:xfrm>
            <a:off x="723960" y="606600"/>
            <a:ext cx="7043760" cy="447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28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КТО ТАКОЙ РОБОТ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7160" y="856800"/>
            <a:ext cx="75218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rcRect l="0" t="15107" r="0" b="0"/>
          <a:stretch/>
        </p:blipFill>
        <p:spPr>
          <a:xfrm>
            <a:off x="1363680" y="914400"/>
            <a:ext cx="6438960" cy="409896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РОБОТЫ ЖИВОТНЫ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Объект 2" descr=""/>
          <p:cNvPicPr/>
          <p:nvPr/>
        </p:nvPicPr>
        <p:blipFill>
          <a:blip r:embed="rId1"/>
          <a:stretch/>
        </p:blipFill>
        <p:spPr>
          <a:xfrm>
            <a:off x="1117440" y="1125360"/>
            <a:ext cx="3365640" cy="1872000"/>
          </a:xfrm>
          <a:prstGeom prst="rect">
            <a:avLst/>
          </a:prstGeom>
          <a:ln w="0">
            <a:noFill/>
          </a:ln>
        </p:spPr>
      </p:pic>
      <p:pic>
        <p:nvPicPr>
          <p:cNvPr id="235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3"/>
          <a:srcRect l="12986" t="0" r="19290" b="0"/>
          <a:stretch/>
        </p:blipFill>
        <p:spPr>
          <a:xfrm>
            <a:off x="5402160" y="914400"/>
            <a:ext cx="3113280" cy="25858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"/>
          <p:cNvPicPr/>
          <p:nvPr/>
        </p:nvPicPr>
        <p:blipFill>
          <a:blip r:embed="rId4"/>
          <a:srcRect l="12706" t="0" r="23621" b="8164"/>
          <a:stretch/>
        </p:blipFill>
        <p:spPr>
          <a:xfrm>
            <a:off x="684360" y="3208320"/>
            <a:ext cx="345600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"/>
          <p:cNvPicPr/>
          <p:nvPr/>
        </p:nvPicPr>
        <p:blipFill>
          <a:blip r:embed="rId5"/>
          <a:srcRect l="1962" t="22000" r="1962" b="12201"/>
          <a:stretch/>
        </p:blipFill>
        <p:spPr>
          <a:xfrm>
            <a:off x="4583160" y="3500280"/>
            <a:ext cx="4201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40" name="Объект 2" descr=""/>
          <p:cNvPicPr/>
          <p:nvPr/>
        </p:nvPicPr>
        <p:blipFill>
          <a:blip r:embed="rId1"/>
          <a:stretch/>
        </p:blipFill>
        <p:spPr>
          <a:xfrm>
            <a:off x="1116000" y="7920"/>
            <a:ext cx="6699240" cy="502452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АЛГОРИТМ РАБО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57160" y="907920"/>
            <a:ext cx="752184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rcRect l="0" t="0" r="0" b="13250"/>
          <a:stretch/>
        </p:blipFill>
        <p:spPr>
          <a:xfrm>
            <a:off x="1751040" y="907920"/>
            <a:ext cx="4802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2286000"/>
            <a:ext cx="77155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ИНТЕРГ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57160" y="1699920"/>
            <a:ext cx="752184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еч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4" descr="C:\Users\KOTYA\Desktop\1394011927_0848.1000x800.jpeg"/>
          <p:cNvPicPr/>
          <p:nvPr/>
        </p:nvPicPr>
        <p:blipFill>
          <a:blip r:embed="rId1"/>
          <a:stretch/>
        </p:blipFill>
        <p:spPr>
          <a:xfrm>
            <a:off x="4572000" y="1484280"/>
            <a:ext cx="4321080" cy="3219480"/>
          </a:xfrm>
          <a:prstGeom prst="rect">
            <a:avLst/>
          </a:prstGeom>
          <a:ln w="0">
            <a:noFill/>
          </a:ln>
        </p:spPr>
      </p:pic>
      <p:pic>
        <p:nvPicPr>
          <p:cNvPr id="25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26920" y="260280"/>
            <a:ext cx="75218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анный конструктор позволяет детям работать в качестве юных исследователей, инженеров, математиков. Ребята собирают и программируют действующие модели, а затем используют их для выполнения задач, по сути являющихся упражнениями из образовательных областей: социально-коммуникативные, познавательное и речевое развитие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3:21:41Z</dcterms:created>
  <dc:creator>1</dc:creator>
  <dc:description/>
  <dc:language>en-US</dc:language>
  <cp:lastModifiedBy>Пользователь</cp:lastModifiedBy>
  <dcterms:modified xsi:type="dcterms:W3CDTF">2020-08-25T11:35:40Z</dcterms:modified>
  <cp:revision>60</cp:revision>
  <dc:subject/>
  <dc:title>Реализация общеинтеллектуального направления на внеурочных занятиях с помощью конструктора  lego education wedo</dc:title>
</cp:coreProperties>
</file>